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DDED-4356-4742-BE5B-30D44A28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stronomers.net/gs4-lifescience/animal-kingdom-post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hicksvilleschools.org/groups/hsbiology/wiki/18f5d/Comparative_Anatomy_Proje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10 of the 17 major phyla of the Animal Kingdom, like Figure 5 on page 98 of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sa.edu.au/echinoder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ighered.mheducation.com/olcweb/cgi/pluginpop.cgi?it=jpg::640::480::/sites/dl/free/0072919345/63804/0623l.jpg::Phylogenetic%20tree%20of%20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Animal_diversity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ademic.reed.edu/biology/courses/BIO342/2011_syllabus/2011_websites/CWEFEL_cephalopods/phylogen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ps.pearsoncustom.com/wps/media/objects/5697/5834441/ebook/htm/0cc6e.htm?18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www.uic.edu/classes/bios/bios100/labs/animaldivers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ochord 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Layers Image from: http://crescentok.com/staff/jaskew/isr/botzo/zoologyintr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ids.britannica.com/comptons/art-166804/Any-animal-that-lacks-a-vertebral-column-or-backbone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aigoodview.com/node/49220?page=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F22-013F-4166-A7F4-BFB9FFC5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70E-5AF1-4012-A021-13E019D8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A47-4CFA-48D5-BC98-7BBAC414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E36-D25A-4BDF-89FE-CD945DEE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ADB-3BD0-4846-A843-80F9E7DF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92C-F3B4-4A32-90D0-AFB42171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E7C-2487-4A2E-87D3-022EB921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D43-3F92-44D3-983E-1987D06A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98E-8EBC-41C7-BBF1-ECE2CB9C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E21-2395-4708-9260-9D3BD7C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A5B-83CE-4507-ADAC-5A5DD81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5D2-0369-4475-839B-FA23D170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8BA0-884A-4118-ADE3-F73992DF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24200" y="609480"/>
            <a:ext cx="5295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a (insects, spiders, lobster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atoda (pinworms, heart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lida (earth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usca (snails, clams, octopu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ifera (rotifers - small aquatic anim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yhelminthes (tape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er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nodermata (starfis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2680" y="3200400"/>
            <a:ext cx="7040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ish, amphibians, mammals, reptiles,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3048120"/>
            <a:ext cx="73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mo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lex of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08440" y="1523880"/>
            <a:ext cx="3384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food &amp;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oles in ecosystems (e.g., pollin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7969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917800"/>
            <a:ext cx="777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at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st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uterost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46760" y="1981080"/>
            <a:ext cx="141120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97360" y="4114800"/>
            <a:ext cx="171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notoch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germ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1897200"/>
            <a:ext cx="4114800" cy="192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00480" y="4114800"/>
            <a:ext cx="3714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8320" y="609480"/>
            <a:ext cx="740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el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dy ca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36960" y="1752480"/>
            <a:ext cx="378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14:31Z</dcterms:created>
  <dc:creator>rubina khan</dc:creator>
  <dc:description/>
  <dc:language>en-US</dc:language>
  <cp:lastModifiedBy>rubina khan</cp:lastModifiedBy>
  <dcterms:modified xsi:type="dcterms:W3CDTF">2015-03-25T02:55:00Z</dcterms:modified>
  <cp:revision>60</cp:revision>
  <dc:subject/>
  <dc:title>The Animals</dc:title>
</cp:coreProperties>
</file>